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3A3F-6E62-40AE-9B36-CA7A0120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BB4D-D877-4D09-89B5-49982701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8E9-D067-405D-B110-76005FA8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2E0-E889-455B-A9D2-1AC8AB90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3354-E070-40C6-BA32-9898DB05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8B2A-E80C-49FB-A8BB-1BB5F13B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F586-B527-4A01-A7D1-38281FEA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8E73-1282-4D62-B348-8BAB55F7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8602-F613-46C5-AD88-A0D6DF4F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D6CF-5295-4301-A523-40677ACF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A2E2-5C66-4985-8941-A19BE3D2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F441-AE0A-4A5D-82AF-22FD2C05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3DE5-8CCF-47B6-AD05-15306D6E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0DAD-D4C0-4A82-9772-209AF9A6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4F81-E279-4EA7-AAC6-3567545B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C0BD-5666-4CC2-AF62-764F41FD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71E8A-BD08-41BA-8B56-F1559B1F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C88C9-CBFF-4266-9EF2-585D36C0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29FFD-17CE-4345-94AE-36E85084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FC26D-A3C5-4D1D-BBD9-A6A0EAE9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564A6-8156-4549-A434-6150B273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1324F-A86E-4E37-9B9D-B6A1729C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7294E-033B-4A90-9520-8639D449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20837-36D3-453D-A7FF-2662ECC5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59A3F-6806-4D93-8289-7BECED95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92D39-38F9-43CF-8DC4-65F00735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656A6-26A7-4C80-852C-BD03CDD5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8D505-F8D2-4C7A-A7AA-607FC6ED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D0E-5EF4-4933-B379-B7C97FBD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FE0-1803-420C-93EE-EC9329B2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6EB-28F9-4B0E-BE71-299B026F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269-4C70-4B02-9832-6DD7D4D5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7E2-AAC4-49CC-BE65-25FA9C12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912-EF94-4142-938D-8BC3B6C9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0E1D-B6EE-4583-B2A6-6FAA4FE8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449-8CF8-43D7-B223-EA9213A8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926E-A1E2-4D86-B66F-23ACBFE6DC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0FEF-09B3-4198-99F6-A883EEFB93D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E406-5AEF-4DF5-9FC3-27F10AD2B32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39760" y="312480"/>
            <a:ext cx="6364080" cy="22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Navodila organa upravljanja o izpolnjevanju pogojev </a:t>
            </a:r>
            <a:br>
              <a:rPr sz="2800"/>
            </a:b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za opravljanje nalog posredniškega organa </a:t>
            </a:r>
            <a:br>
              <a:rPr sz="2800"/>
            </a:b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v programskem obdobju 2014 - 2020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1.12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18640" y="365040"/>
            <a:ext cx="7067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00000"/>
                </a:solidFill>
                <a:latin typeface="Calibri Light"/>
              </a:rPr>
              <a:t>Kazal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825120" y="1872720"/>
            <a:ext cx="7061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avna podla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plošne smer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Minimalni standar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Vprašanj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225360" y="1262160"/>
            <a:ext cx="829008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Uredba (EU) št. 1303/201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Uredba (EU) št. 1301/201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Uredba (EU) št. 1304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Uredba (EU) št. 1300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Izvedbena uredba EU) št. 1011/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ZJ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ZIP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Uredba o porabi sredstev evropske kohezijske politike v Republiki Sloveniji v programskem obdobju 2014–2020 za cilj naložbe za rast in delovna mesta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47360" y="174240"/>
            <a:ext cx="77677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Calibri Light"/>
              </a:rPr>
              <a:t>Pravna podlag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Content Placeholder 3" descr=""/>
          <p:cNvPicPr/>
          <p:nvPr/>
        </p:nvPicPr>
        <p:blipFill>
          <a:blip r:embed="rId1"/>
          <a:stretch/>
        </p:blipFill>
        <p:spPr>
          <a:xfrm>
            <a:off x="396720" y="1073160"/>
            <a:ext cx="8382240" cy="545616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74640" y="364680"/>
            <a:ext cx="78408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72. člen 1303/2013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Content Placeholder 3" descr=""/>
          <p:cNvPicPr/>
          <p:nvPr/>
        </p:nvPicPr>
        <p:blipFill>
          <a:blip r:embed="rId1"/>
          <a:stretch/>
        </p:blipFill>
        <p:spPr>
          <a:xfrm>
            <a:off x="219240" y="1133640"/>
            <a:ext cx="8650080" cy="54990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Splošne smernic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18600" y="1150560"/>
            <a:ext cx="85568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PO mora zagotovit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rganizacijsko shemo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notraj NPU z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pisom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razdelitvijo nalog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ki pokrivajo vse faze izvajanja EKP, s predvidenim št. delovnih mes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 primeru, da je NPU v vlogi upravičenca, mora zagotavljati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ločitev funkcij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 zagotavljanjem funkcionalne neodvisnosti pri izvajanju in preverjanju operac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ačrtovanje operacij in jamstva o plačilni sposobnosti P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reverjanje skladnosti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peracij s pravili Evropske unije in Republike Slovenije (pred potrditvij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zvajanje sistema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spremljanj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rednotenj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operativnega progr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zvajanje sistema za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reprečevanje, odkrivanje, evidentiranje, preiskovanje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n odpravljan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nepravilnosti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in goljuf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mogočan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reverjanje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 strani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U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ter delovanja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revizorje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nadzornih in tehničnih misij organov Evropske unije in Republike Slovenije ter ukrepanje skladno s priporočili iz končnih poročil mis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reverjanje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dobave sofinanciranih proizvodov in storitev ter preverjanje, ali so izdatki, ki so jih navedli izvajalci, dejansko nastali ter so v skladu s pravili Evropske unije in Republike Sloveni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2560" y="364680"/>
            <a:ext cx="7832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Minimalni standardi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396720" y="880560"/>
            <a:ext cx="8288640" cy="56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upravljanje in izvajan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celostnih teritorialnih naložb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kjer je to relevantn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upravljanje in izvajan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lokalnega razvoja, ki ga vodi skupnost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kjer je to relevantn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gotavljanje pravilnega in rednega zbiranja ter vnosa podatkov o izvajanju v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informacijskem sistemu OU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ki so potrebni za finančno upravljanje, spremljanje, nadzor in vrednotenje v skladu z navodili 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gotavljanje, da upravičenci in drugi organi, ki so udeleženi v izvajanju operacij,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odijo ločeno knjigovodstvo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za vse transakcije v zvezi z operacij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zpostavitev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ostopkov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 zagotovitev, da se vsi dokumenti glede izdatkov in preverjanj, ki so potrebni za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zagotovitev ustrezne revizijske sledi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hranijo v skladu s 140. členom Uredbe 1303/2013/EU in navodili 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gotavljanje, da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U in MF-PO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ejm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se potrebne podatke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 postopkih in nadzoru, ki se izvaja gled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izdatko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za namene izdaje potrdil, priprave letnih poročil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gotavljanje upoštevanja zahtev gled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informiranj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in javnega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bveščanj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gotavljanje podatkov Evropski komisiji, da ji je omogočeno ocenjevan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elikih projektov,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kjer je relevant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45840" y="175320"/>
            <a:ext cx="78692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Content Placeholder 3" descr=""/>
          <p:cNvPicPr/>
          <p:nvPr/>
        </p:nvPicPr>
        <p:blipFill>
          <a:blip r:embed="rId1"/>
          <a:stretch/>
        </p:blipFill>
        <p:spPr>
          <a:xfrm>
            <a:off x="396720" y="1231920"/>
            <a:ext cx="8345520" cy="53640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3520" y="365040"/>
            <a:ext cx="789156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Nič ni stalnega </a:t>
            </a:r>
            <a:r>
              <a:rPr b="0" lang="sl-SI" sz="3200" spc="-1" strike="noStrike">
                <a:solidFill>
                  <a:srgbClr val="c00000"/>
                </a:solidFill>
                <a:latin typeface="Calibri Light"/>
              </a:rPr>
              <a:t>(razen sprememb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4" descr="http://internetnizasluzek.blog.siol.net/files/2011/08/vprasanje-300x300.jpg"/>
          <p:cNvPicPr/>
          <p:nvPr/>
        </p:nvPicPr>
        <p:blipFill>
          <a:blip r:embed="rId1"/>
          <a:stretch/>
        </p:blipFill>
        <p:spPr>
          <a:xfrm>
            <a:off x="2211480" y="1155600"/>
            <a:ext cx="44226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Irena Brcko Kogoj</cp:lastModifiedBy>
  <cp:lastPrinted>2015-11-27T07:19:45Z</cp:lastPrinted>
  <dcterms:modified xsi:type="dcterms:W3CDTF">2015-11-30T09:35:42Z</dcterms:modified>
  <cp:revision>68</cp:revision>
  <dc:subject/>
  <dc:title>PowerPoint Presentation</dc:title>
</cp:coreProperties>
</file>